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01A-0D5A-413A-B9BA-619E0EE7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FB6-49A1-4CEE-91C4-AD22D4B4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D60-8914-4A40-A863-E9087B13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0D6-973D-4FFC-9E58-5987F500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76A-0DFF-4B90-8237-101950C1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3D5-9290-4804-B52D-8044D5F7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DDB-6C94-42BF-98B2-3E9BC2C8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45B-9C1D-454D-8715-7A8B5F74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1A9-EF97-4BC9-AABF-7983E617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B49-6E79-4D80-8372-8B3F6F2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274-7E49-41D2-815C-0DBA23A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E4C-E574-4069-A76E-8A68B5C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817B-9EEB-4F6A-B14F-4DE7B30E2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topdesign72.com/images-and-best-ideas-on-how-to-make-steam-shower-units/steam-shower-units-5/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n día normal en la rutina de Car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4343400" cy="307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715000" y="1676520"/>
            <a:ext cx="220968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ccff"/>
                </a:solidFill>
                <a:latin typeface="Arial"/>
              </a:rPr>
              <a:t>Desde que Carlos no pudo encontrar un bano se va a c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828880"/>
            <a:ext cx="38098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86200" y="28195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Arial"/>
              </a:rPr>
              <a:t>Es </a:t>
            </a:r>
            <a:r>
              <a:rPr b="0" lang="es-ES" sz="4800" spc="-1" strike="noStrike">
                <a:solidFill>
                  <a:srgbClr val="0000cc"/>
                </a:solidFill>
                <a:latin typeface="Arial"/>
              </a:rPr>
              <a:t>hinchable c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324480" y="4267080"/>
            <a:ext cx="25146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rlos se despi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4267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49528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105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ma es una hamburgu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uando va al bano se pone un plat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719400">
            <a:off x="5105520" y="114264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7524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latano es u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oche bocad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61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los usar un navaja 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crema de afei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2819520" cy="2622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3657600" cy="246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419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4419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2467080"/>
            <a:ext cx="4286160" cy="4390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el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ala de estar Carlos desayunarse y ver la tele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1219320"/>
            <a:ext cx="1676520" cy="2428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267080" y="1523880"/>
            <a:ext cx="4038840" cy="269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48320" y="5181480"/>
            <a:ext cx="4038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television 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d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934320" y="3809880"/>
            <a:ext cx="19047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61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arlos tomer una ducha en el 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81560" y="2209680"/>
            <a:ext cx="4762440" cy="4648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33520" y="3505320"/>
            <a:ext cx="2733480" cy="216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144792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los usar una barra de jabon en el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 de una ho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cc"/>
                </a:solidFill>
                <a:latin typeface="Arial"/>
              </a:rPr>
              <a:t>después de la ducha Carlos usar</a:t>
            </a:r>
            <a:br>
              <a:rPr sz="4000"/>
            </a:br>
            <a:r>
              <a:rPr b="0" lang="es-ES" sz="4000" spc="-1" strike="noStrike">
                <a:solidFill>
                  <a:srgbClr val="0000cc"/>
                </a:solidFill>
                <a:latin typeface="Arial"/>
              </a:rPr>
              <a:t>un bicicleta y dar una camina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2936880"/>
            <a:ext cx="5181480" cy="3921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3662280"/>
            <a:ext cx="4038480" cy="3195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19051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El Bicicleta usar un </a:t>
            </a:r>
            <a:r>
              <a:rPr b="0" lang="es-ES" sz="2800" spc="-1" strike="noStrike">
                <a:solidFill>
                  <a:srgbClr val="33ccff"/>
                </a:solidFill>
                <a:latin typeface="Arial"/>
              </a:rPr>
              <a:t>ruedas de entr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os usar un jeepney ir a C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477120" y="497664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16002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V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rar un rollo de papel higienico y un inod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3417840"/>
            <a:ext cx="6553080" cy="3440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705720" y="304812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VS no vende inodo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1442880" cy="1374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00600" y="198108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895480" y="1981080"/>
            <a:ext cx="971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rlos está muy enoj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80720" y="1143000"/>
            <a:ext cx="51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VS no vende inodor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600280"/>
            <a:ext cx="4191120" cy="425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10080" y="2590920"/>
            <a:ext cx="2914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3:09Z</dcterms:created>
  <dc:creator>evan lee</dc:creator>
  <dc:description/>
  <dc:language>en-US</dc:language>
  <cp:lastModifiedBy>evan lee</cp:lastModifiedBy>
  <dcterms:modified xsi:type="dcterms:W3CDTF">2012-04-05T15:51:50Z</dcterms:modified>
  <cp:revision>6</cp:revision>
  <dc:subject/>
  <dc:title>Un día normal en la vida de Carlos</dc:title>
</cp:coreProperties>
</file>